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002-CE06-4C12-A142-A5786CD2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EF7-6D1F-4C80-8A63-8360F36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FA0-2908-4616-8984-526E2520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B18-65ED-4695-B200-A7D67578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9C87-6B68-40B5-AC93-E7A01DA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A235-782F-42C9-B1CD-0C1FFB0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022A-8B7A-437B-BA97-A95DB34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A113-3223-44FA-A4EA-C72C870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93D-EE1C-4049-8A77-76D4C4F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15E2-BBC0-4787-955C-3E769FA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305E-6BA6-4955-A56F-6F04070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BB2-94B8-4EFD-B9BD-260CECB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4F1-50C7-47CB-B6C2-01E0924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1C8-1155-44E3-A0A4-C452E22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094C-A1F1-4EE3-B2E3-6EA7099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4E54-E059-4B5F-B2A9-054F0F3E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D44-998F-4B4C-A062-EC753E9F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715-F36A-4B0B-87D7-4F678B8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31B-C840-4C44-BFD7-E09DCB0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496-4CBF-42F1-88B0-9626C8F5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22D-6252-4D9A-982F-2A8F536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137-0944-4736-8E2B-E699F43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100-751E-4161-BA01-6E238DB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602-7141-4DDA-A0CF-FB5BBA7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501E-C42D-4B8F-AD7A-6EF1E458F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63C-578D-4A2C-99BD-FFAF016EA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601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ТРОЙНАЯ </a:t>
            </a:r>
            <a:br>
              <a:rPr sz="6600"/>
            </a:b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 ЗАЩИТ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645000"/>
            <a:ext cx="8317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Мы, Богу мол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твердо зн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Что наш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защита тро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1768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А день тот сошествия Дух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се ТРОИЦЕЙ ныне зовут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03400" y="1484280"/>
            <a:ext cx="3448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6165720"/>
            <a:ext cx="511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УДО ЦЕНТР ВОРОШИЛОВСКОГО РАЙОНА ВОЛГОГРА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ПДО Саенко Зоя Анатольев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0560" y="1676520"/>
            <a:ext cx="85914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И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огу молясь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 </a:t>
            </a:r>
            <a:br>
              <a:rPr sz="20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вердо знаю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то это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защита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рой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68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16400" y="242064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ец наш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наш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бес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р созд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с сотвор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000" y="260280"/>
            <a:ext cx="5238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о иску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Змей вероломный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Лишил нас божественных кры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И Сын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мир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ставший жестоки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30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ыл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р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6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Чтоб кровью Его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потоко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Земля очищала себ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5000" y="1413000"/>
            <a:ext cx="4613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оскресший  Христо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и прежде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при жизни короткой сво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4280" y="1700280"/>
            <a:ext cx="4178520" cy="475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ёс свет нам добра и надежды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сиянье бессмертных ид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О Боге учил Триедином, но только лишь ученики 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Дух видеть могли голубиный и огненные языки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6532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851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И стали на разных наречьях нести они веру Христ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6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Когда нет в ней противоречья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душа и сильн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и чист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14600"/>
            <a:ext cx="590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11:47:04Z</dcterms:created>
  <dc:creator>home</dc:creator>
  <dc:description/>
  <dc:language>en-US</dc:language>
  <cp:lastModifiedBy>home</cp:lastModifiedBy>
  <dcterms:modified xsi:type="dcterms:W3CDTF">2020-05-27T08:48:42Z</dcterms:modified>
  <cp:revision>1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